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D6E-ADDB-4364-B163-CB9B786F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C11-6279-4DC9-9B93-23CBB65C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77B-9C18-4CDB-86AE-8075ED3C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F10-5EB1-4221-A06B-35C6E242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7077-0862-4CB7-88FE-E2E2C2C26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F889-A56A-4023-933A-FD719E19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6A67-3FFA-48F8-9855-08BC0421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1F3B-EE04-41F6-894B-BE8F19E9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AB76-F385-4317-8164-C275FD5C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3AC1B-BC0C-4616-B8DB-9BA8C7F6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8A4E-F5EE-423D-8591-0B3DF0BE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BF7-843F-4C01-A0EA-D99C87C4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4925-A75B-4976-85F3-1A78229D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A1E3-A891-45CF-A664-A9BBB4C6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1F35-18BF-429D-92D5-4167195C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8FFD-9943-46E2-8841-F8C2E994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6328-4839-4F83-99CD-91381AB5C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D99-F648-4613-99F5-D0DA83ED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897-20F6-4CC3-92E0-8FEA6DCF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242-8EF3-4B3B-B8E7-93D143D2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348-136E-4785-99FB-75100668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28C3-470A-43FE-B0C2-00DAADE2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BB9-F9AD-4C5E-8CC0-F8747243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8F88-37C9-4C98-99A4-00C9DC95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4866-C46F-49E4-9232-ACF4C70716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4C49-8F96-4264-8CAD-93FB41D612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slide34.xml"/><Relationship Id="rId4" Type="http://schemas.openxmlformats.org/officeDocument/2006/relationships/slide" Target="slide35.xml"/><Relationship Id="rId5" Type="http://schemas.openxmlformats.org/officeDocument/2006/relationships/slide" Target="slide36.xml"/><Relationship Id="rId6" Type="http://schemas.openxmlformats.org/officeDocument/2006/relationships/slide" Target="slide37.xm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OLE OF MULTIMEDIA IN 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ypes of Multimedia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ategories of multimedia presentation 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embahan yang menyampaikan maklumat secara turutan dari mula hingga akhi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awalan navigasi membolehkan pengguna maju ke hadapan dan undur kebelaka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ntuk Persembahan Multimed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914400" y="3554280"/>
            <a:ext cx="898560" cy="50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290680" y="3471840"/>
            <a:ext cx="1135080" cy="72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5600880" y="3414600"/>
            <a:ext cx="1134720" cy="72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99360" y="3451320"/>
            <a:ext cx="1135080" cy="72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3927600" y="3457440"/>
            <a:ext cx="1135080" cy="72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en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1798560" y="3819600"/>
            <a:ext cx="42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3484440" y="3794040"/>
            <a:ext cx="42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5135400" y="3808440"/>
            <a:ext cx="42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6818400" y="3794040"/>
            <a:ext cx="42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1625760" y="5219640"/>
            <a:ext cx="26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Multimedia Pres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n-linea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sembahan yang menyampaikan maklumat secara berpusat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rdapat satu paparan menu yang akan menghubungkan paparan maklumat yang lai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awalan navigasi membolehkan pengguna mencapai maklumat yang terkandung dalam paparan pertama, kedua dan seterusny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Multimedia Pres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645000" y="3673440"/>
            <a:ext cx="1371600" cy="67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 Ut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5904000" y="4356000"/>
            <a:ext cx="1371600" cy="67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lu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t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5861160" y="2911320"/>
            <a:ext cx="1371600" cy="67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lu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mp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3649680" y="2349360"/>
            <a:ext cx="1371600" cy="67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273320" y="3706920"/>
            <a:ext cx="1371600" cy="67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lu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3871800" y="5180040"/>
            <a:ext cx="1371600" cy="67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l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"/>
          <p:cNvSpPr/>
          <p:nvPr/>
        </p:nvSpPr>
        <p:spPr>
          <a:xfrm>
            <a:off x="1778040" y="4871880"/>
            <a:ext cx="1371600" cy="67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lum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d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4424400" y="4410000"/>
            <a:ext cx="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4295880" y="2997360"/>
            <a:ext cx="14040" cy="67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2712960" y="4070520"/>
            <a:ext cx="930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 flipH="1">
            <a:off x="3244680" y="4395960"/>
            <a:ext cx="63360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5043600" y="4145040"/>
            <a:ext cx="841320" cy="560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 flipV="1">
            <a:off x="5059440" y="3052800"/>
            <a:ext cx="766800" cy="766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603440" y="6029280"/>
            <a:ext cx="59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766800" y="6208560"/>
            <a:ext cx="71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n-linear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Multimedia Pres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n-lin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mua paparan dihubungkan dengan paparan maklumat yang lain secara teru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avigasi pengguna semasa mencapai maklumat yang terkandung dalam mana-mana paparan adalah beb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tiap satu paparan mempunyai hubungan dengan mana-mana paparan lain secara terus dan boleh kembali ke mana-mana papara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ypes of Multimedia Pres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894120" y="3141720"/>
            <a:ext cx="171144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596960" y="5224320"/>
            <a:ext cx="171144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lu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d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6095880" y="5181480"/>
            <a:ext cx="171144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lu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t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1593720" y="3817800"/>
            <a:ext cx="1711440" cy="8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lu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6197760" y="3749760"/>
            <a:ext cx="1711080" cy="86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lu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mp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4124160" y="2265480"/>
            <a:ext cx="1209960" cy="48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4218120" y="5427720"/>
            <a:ext cx="11206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lu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0"/>
          <p:cNvSpPr/>
          <p:nvPr/>
        </p:nvSpPr>
        <p:spPr>
          <a:xfrm flipH="1">
            <a:off x="4733640" y="2816280"/>
            <a:ext cx="1404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"/>
          <p:cNvSpPr/>
          <p:nvPr/>
        </p:nvSpPr>
        <p:spPr>
          <a:xfrm>
            <a:off x="4764240" y="4025880"/>
            <a:ext cx="0" cy="13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"/>
          <p:cNvSpPr/>
          <p:nvPr/>
        </p:nvSpPr>
        <p:spPr>
          <a:xfrm flipV="1">
            <a:off x="2876400" y="3317760"/>
            <a:ext cx="973440" cy="50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3"/>
          <p:cNvSpPr/>
          <p:nvPr/>
        </p:nvSpPr>
        <p:spPr>
          <a:xfrm>
            <a:off x="3332160" y="4307040"/>
            <a:ext cx="2862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4"/>
          <p:cNvSpPr/>
          <p:nvPr/>
        </p:nvSpPr>
        <p:spPr>
          <a:xfrm flipH="1">
            <a:off x="7049880" y="4616280"/>
            <a:ext cx="140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5"/>
          <p:cNvSpPr/>
          <p:nvPr/>
        </p:nvSpPr>
        <p:spPr>
          <a:xfrm>
            <a:off x="2389320" y="4689360"/>
            <a:ext cx="0" cy="532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6"/>
          <p:cNvSpPr/>
          <p:nvPr/>
        </p:nvSpPr>
        <p:spPr>
          <a:xfrm>
            <a:off x="5678640" y="3259080"/>
            <a:ext cx="86976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7"/>
          <p:cNvSpPr/>
          <p:nvPr/>
        </p:nvSpPr>
        <p:spPr>
          <a:xfrm>
            <a:off x="5324400" y="4011480"/>
            <a:ext cx="924120" cy="117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8"/>
          <p:cNvSpPr/>
          <p:nvPr/>
        </p:nvSpPr>
        <p:spPr>
          <a:xfrm flipH="1">
            <a:off x="3052800" y="4025880"/>
            <a:ext cx="103176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9"/>
          <p:cNvSpPr/>
          <p:nvPr/>
        </p:nvSpPr>
        <p:spPr>
          <a:xfrm>
            <a:off x="3333600" y="5648400"/>
            <a:ext cx="88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0"/>
          <p:cNvSpPr/>
          <p:nvPr/>
        </p:nvSpPr>
        <p:spPr>
          <a:xfrm flipH="1">
            <a:off x="5324040" y="5692680"/>
            <a:ext cx="82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1"/>
          <p:cNvSpPr/>
          <p:nvPr/>
        </p:nvSpPr>
        <p:spPr>
          <a:xfrm flipH="1">
            <a:off x="5352840" y="4645080"/>
            <a:ext cx="871560" cy="87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2"/>
          <p:cNvSpPr/>
          <p:nvPr/>
        </p:nvSpPr>
        <p:spPr>
          <a:xfrm>
            <a:off x="3376440" y="4410000"/>
            <a:ext cx="989280" cy="98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3"/>
          <p:cNvSpPr/>
          <p:nvPr/>
        </p:nvSpPr>
        <p:spPr>
          <a:xfrm>
            <a:off x="1268280" y="6224760"/>
            <a:ext cx="666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n-lin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"/>
          <p:cNvSpPr/>
          <p:nvPr/>
        </p:nvSpPr>
        <p:spPr>
          <a:xfrm>
            <a:off x="3348000" y="6002280"/>
            <a:ext cx="2787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riteria of MS Powerpoint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eate &amp; customize slide master- can edit slide master such inserting logo,pictur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tract Nar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eate web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internal hyperlinks" that connect one slide to another, complete with "action" and "return" but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riteria of MS Powerpoi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eate &amp; customize slide master- can edit slide master such inserting logo,pictur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tract Nar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reate web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internal hyperlinks" that connect one slide to another, complete with "action" and "return" but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2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riteria of MS Powerpoint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t up "custom shows," - allow to specify which slides of a presentation should be shown, and in what order... without having to "hide" or rearrange slides via slide sorter 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t slide timings, create automatically repeating slide shows, and even record nar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riteria of MS Powerpoint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le to  "annotate" slid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ur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a presentation, with electronic "pencils," "felt-tipped pens," or "highlighters"... and save your anno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EFINITION OF MULTIMED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words ‘multi’ and ‘media/medium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– refers to many or multi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/medium – is a tool, vehicle or agent to present or convey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media is all about communicating in several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DIUM OF DELIVE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application that is accessed from storage dev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ch 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loppy-dis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D R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VD R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application that is accessed with a web browser over a network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ch 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intran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RE TO USE MULTIMEDIA SYSTEM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Diagram 6"/>
          <p:cNvGrpSpPr/>
          <p:nvPr/>
        </p:nvGrpSpPr>
        <p:grpSpPr>
          <a:xfrm>
            <a:off x="2436840" y="1730520"/>
            <a:ext cx="4270320" cy="4268520"/>
            <a:chOff x="2436840" y="1730520"/>
            <a:chExt cx="4270320" cy="4268520"/>
          </a:xfrm>
        </p:grpSpPr>
        <p:sp>
          <p:nvSpPr>
            <p:cNvPr id="216" name="_s2052"/>
            <p:cNvSpPr/>
            <p:nvPr/>
          </p:nvSpPr>
          <p:spPr>
            <a:xfrm flipH="1" flipV="1">
              <a:off x="3817800" y="3109680"/>
              <a:ext cx="378000" cy="377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2053"/>
            <p:cNvSpPr/>
            <p:nvPr/>
          </p:nvSpPr>
          <p:spPr>
            <a:xfrm>
              <a:off x="2905200" y="2198520"/>
              <a:ext cx="1066680" cy="10670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usiness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ustr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2054"/>
            <p:cNvSpPr/>
            <p:nvPr/>
          </p:nvSpPr>
          <p:spPr>
            <a:xfrm flipH="1">
              <a:off x="3505320" y="3863880"/>
              <a:ext cx="534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2055"/>
            <p:cNvSpPr/>
            <p:nvPr/>
          </p:nvSpPr>
          <p:spPr>
            <a:xfrm>
              <a:off x="2436840" y="333216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th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2056"/>
            <p:cNvSpPr/>
            <p:nvPr/>
          </p:nvSpPr>
          <p:spPr>
            <a:xfrm flipH="1">
              <a:off x="3817800" y="4240080"/>
              <a:ext cx="378000" cy="378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2057"/>
            <p:cNvSpPr/>
            <p:nvPr/>
          </p:nvSpPr>
          <p:spPr>
            <a:xfrm>
              <a:off x="2906640" y="446400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ducation 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2058"/>
            <p:cNvSpPr/>
            <p:nvPr/>
          </p:nvSpPr>
          <p:spPr>
            <a:xfrm>
              <a:off x="4572000" y="4395960"/>
              <a:ext cx="0" cy="534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9"/>
            <p:cNvSpPr/>
            <p:nvPr/>
          </p:nvSpPr>
          <p:spPr>
            <a:xfrm>
              <a:off x="4040280" y="493236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060"/>
            <p:cNvSpPr/>
            <p:nvPr/>
          </p:nvSpPr>
          <p:spPr>
            <a:xfrm>
              <a:off x="4948200" y="4240080"/>
              <a:ext cx="378000" cy="378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2061"/>
            <p:cNvSpPr/>
            <p:nvPr/>
          </p:nvSpPr>
          <p:spPr>
            <a:xfrm>
              <a:off x="5172120" y="446256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62"/>
            <p:cNvSpPr/>
            <p:nvPr/>
          </p:nvSpPr>
          <p:spPr>
            <a:xfrm>
              <a:off x="5103720" y="3863880"/>
              <a:ext cx="5349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2063"/>
            <p:cNvSpPr/>
            <p:nvPr/>
          </p:nvSpPr>
          <p:spPr>
            <a:xfrm>
              <a:off x="5640480" y="333072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tai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64"/>
            <p:cNvSpPr/>
            <p:nvPr/>
          </p:nvSpPr>
          <p:spPr>
            <a:xfrm flipV="1">
              <a:off x="4948200" y="3109680"/>
              <a:ext cx="378000" cy="377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2065"/>
            <p:cNvSpPr/>
            <p:nvPr/>
          </p:nvSpPr>
          <p:spPr>
            <a:xfrm>
              <a:off x="5170320" y="2198520"/>
              <a:ext cx="1067040" cy="1067040"/>
            </a:xfrm>
            <a:prstGeom prst="ellipse">
              <a:avLst/>
            </a:prstGeom>
            <a:noFill/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2066"/>
            <p:cNvSpPr/>
            <p:nvPr/>
          </p:nvSpPr>
          <p:spPr>
            <a:xfrm flipV="1">
              <a:off x="4572000" y="2797200"/>
              <a:ext cx="0" cy="5349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2067"/>
            <p:cNvSpPr/>
            <p:nvPr/>
          </p:nvSpPr>
          <p:spPr>
            <a:xfrm>
              <a:off x="4038480" y="173052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d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2068"/>
            <p:cNvSpPr/>
            <p:nvPr/>
          </p:nvSpPr>
          <p:spPr>
            <a:xfrm>
              <a:off x="4038480" y="333216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ULTIMEDIA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IN VARIOU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IELD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SE OF 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BASIC FUNCTIONS OF THE INTERN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y (1999) has identified four ways in which the internet can function as an educational tool in the classroom and these four ways are also applicable in ESL/EFL classro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for and rece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 and prov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and r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e and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BASIC FUNCTIONS OF THE INTERN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4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for and rece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ises activities that are based on using the internet as a huge virtual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se activities students search for and retrieve information from this lib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BASIC FUNCTIONS OF THE INTERN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9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9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9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sh and prov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ctivities involve not the retrieval, but the publication of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ublishing is done on web pages, which are the basic places where information is stored on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BASIC FUNCTIONS OF THE INTERN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and r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conversational activities that take place via the internet through email correspondence and in ‘chat’ ro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tegory could also include internet phone conver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BASIC FUNCTIONS OF THE INTERN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9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4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e and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tegory includes joint projects that involve students in two or more classrooms that might be thousands of miles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ourth way of integrating the internet usually involves one or more of the other three 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 BASIC FUNCTIONS OF THE INTERN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6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1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MEDIA DEVELOP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interfac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an organize structur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a simple desig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ep the user interface vis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informative feed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ep the user interface flexi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inimize memory lo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shortcuts for frequent us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MEDIA ELEME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Diagram 6"/>
          <p:cNvGrpSpPr/>
          <p:nvPr/>
        </p:nvGrpSpPr>
        <p:grpSpPr>
          <a:xfrm>
            <a:off x="2097000" y="1600200"/>
            <a:ext cx="4950000" cy="4530240"/>
            <a:chOff x="2097000" y="1600200"/>
            <a:chExt cx="4950000" cy="4530240"/>
          </a:xfrm>
        </p:grpSpPr>
        <p:sp>
          <p:nvSpPr>
            <p:cNvPr id="101" name="_s1028"/>
            <p:cNvSpPr/>
            <p:nvPr/>
          </p:nvSpPr>
          <p:spPr>
            <a:xfrm flipV="1">
              <a:off x="4572000" y="2732400"/>
              <a:ext cx="0" cy="56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29"/>
            <p:cNvSpPr/>
            <p:nvPr/>
          </p:nvSpPr>
          <p:spPr>
            <a:xfrm>
              <a:off x="3884760" y="1600200"/>
              <a:ext cx="1374480" cy="1132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0"/>
            <p:cNvSpPr/>
            <p:nvPr/>
          </p:nvSpPr>
          <p:spPr>
            <a:xfrm flipV="1">
              <a:off x="5165640" y="3298680"/>
              <a:ext cx="596880" cy="28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1"/>
            <p:cNvSpPr/>
            <p:nvPr/>
          </p:nvSpPr>
          <p:spPr>
            <a:xfrm>
              <a:off x="5670720" y="2448720"/>
              <a:ext cx="1374480" cy="1132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2"/>
            <p:cNvSpPr/>
            <p:nvPr/>
          </p:nvSpPr>
          <p:spPr>
            <a:xfrm>
              <a:off x="5165640" y="4147200"/>
              <a:ext cx="596880" cy="28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3"/>
            <p:cNvSpPr/>
            <p:nvPr/>
          </p:nvSpPr>
          <p:spPr>
            <a:xfrm>
              <a:off x="5672160" y="4147200"/>
              <a:ext cx="1374840" cy="11318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7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IM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4572000" y="4429440"/>
              <a:ext cx="0" cy="56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5"/>
            <p:cNvSpPr/>
            <p:nvPr/>
          </p:nvSpPr>
          <p:spPr>
            <a:xfrm>
              <a:off x="3886200" y="4998240"/>
              <a:ext cx="1374840" cy="1132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ACTIV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6"/>
            <p:cNvSpPr/>
            <p:nvPr/>
          </p:nvSpPr>
          <p:spPr>
            <a:xfrm flipH="1">
              <a:off x="3381480" y="4147200"/>
              <a:ext cx="596880" cy="28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7"/>
            <p:cNvSpPr/>
            <p:nvPr/>
          </p:nvSpPr>
          <p:spPr>
            <a:xfrm>
              <a:off x="2098800" y="4149720"/>
              <a:ext cx="1374480" cy="1132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PH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8"/>
            <p:cNvSpPr/>
            <p:nvPr/>
          </p:nvSpPr>
          <p:spPr>
            <a:xfrm flipH="1" flipV="1">
              <a:off x="3381480" y="3298680"/>
              <a:ext cx="596880" cy="28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9"/>
            <p:cNvSpPr/>
            <p:nvPr/>
          </p:nvSpPr>
          <p:spPr>
            <a:xfrm>
              <a:off x="2097000" y="2450160"/>
              <a:ext cx="1374840" cy="1132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40"/>
            <p:cNvSpPr/>
            <p:nvPr/>
          </p:nvSpPr>
          <p:spPr>
            <a:xfrm>
              <a:off x="3884760" y="3299760"/>
              <a:ext cx="1374480" cy="1132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LTIMEDI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MEDIA DEVELOP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sign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tent special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ideo special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dio special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gramm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ULTIMEDIA P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6"/>
          <p:cNvGrpSpPr/>
          <p:nvPr/>
        </p:nvGrpSpPr>
        <p:grpSpPr>
          <a:xfrm>
            <a:off x="457200" y="1600200"/>
            <a:ext cx="8228880" cy="4530240"/>
            <a:chOff x="457200" y="1600200"/>
            <a:chExt cx="8228880" cy="4530240"/>
          </a:xfrm>
        </p:grpSpPr>
        <p:cxnSp>
          <p:nvCxnSpPr>
            <p:cNvPr id="253" name="_s3076"/>
            <p:cNvCxnSpPr>
              <a:stCxn id="254" idx="1"/>
              <a:endCxn id="255" idx="2"/>
            </p:cNvCxnSpPr>
            <p:nvPr/>
          </p:nvCxnSpPr>
          <p:spPr>
            <a:xfrm rot="10800000">
              <a:off x="5485320" y="5330160"/>
              <a:ext cx="457560" cy="53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6" name="_s3077"/>
            <p:cNvCxnSpPr>
              <a:stCxn id="255" idx="1"/>
              <a:endCxn id="257" idx="2"/>
            </p:cNvCxnSpPr>
            <p:nvPr/>
          </p:nvCxnSpPr>
          <p:spPr>
            <a:xfrm rot="10800000">
              <a:off x="3656520" y="4530960"/>
              <a:ext cx="457560" cy="53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8" name="_s3078"/>
            <p:cNvCxnSpPr>
              <a:stCxn id="257" idx="1"/>
              <a:endCxn id="259" idx="2"/>
            </p:cNvCxnSpPr>
            <p:nvPr/>
          </p:nvCxnSpPr>
          <p:spPr>
            <a:xfrm rot="10800000">
              <a:off x="1827720" y="3731400"/>
              <a:ext cx="457560" cy="53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0" name="_s3079"/>
            <p:cNvCxnSpPr>
              <a:stCxn id="259" idx="0"/>
              <a:endCxn id="261" idx="2"/>
            </p:cNvCxnSpPr>
            <p:nvPr/>
          </p:nvCxnSpPr>
          <p:spPr>
            <a:xfrm flipV="1">
              <a:off x="1828080" y="2932200"/>
              <a:ext cx="3240" cy="26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2" name="_s3080"/>
            <p:cNvCxnSpPr>
              <a:stCxn id="261" idx="0"/>
              <a:endCxn id="263" idx="2"/>
            </p:cNvCxnSpPr>
            <p:nvPr/>
          </p:nvCxnSpPr>
          <p:spPr>
            <a:xfrm flipV="1">
              <a:off x="1828080" y="2132640"/>
              <a:ext cx="3240" cy="267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3" name="_s3081">
              <a:hlinkClick r:id="rId1" action="ppaction://hlinksldjump"/>
            </p:cNvPr>
            <p:cNvSpPr/>
            <p:nvPr/>
          </p:nvSpPr>
          <p:spPr>
            <a:xfrm>
              <a:off x="457200" y="1600200"/>
              <a:ext cx="2742840" cy="532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3082">
              <a:hlinkClick r:id="rId2" action="ppaction://hlinksldjump"/>
            </p:cNvPr>
            <p:cNvSpPr/>
            <p:nvPr/>
          </p:nvSpPr>
          <p:spPr>
            <a:xfrm>
              <a:off x="457200" y="2399400"/>
              <a:ext cx="2742840" cy="532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3083">
              <a:hlinkClick r:id="rId3" action="ppaction://hlinksldjump"/>
            </p:cNvPr>
            <p:cNvSpPr/>
            <p:nvPr/>
          </p:nvSpPr>
          <p:spPr>
            <a:xfrm>
              <a:off x="457200" y="3198960"/>
              <a:ext cx="2742840" cy="532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3084">
              <a:hlinkClick r:id="rId4" action="ppaction://hlinksldjump"/>
            </p:cNvPr>
            <p:cNvSpPr/>
            <p:nvPr/>
          </p:nvSpPr>
          <p:spPr>
            <a:xfrm>
              <a:off x="2285640" y="3998520"/>
              <a:ext cx="2742840" cy="532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3085">
              <a:hlinkClick r:id="rId5" action="ppaction://hlinksldjump"/>
            </p:cNvPr>
            <p:cNvSpPr/>
            <p:nvPr/>
          </p:nvSpPr>
          <p:spPr>
            <a:xfrm>
              <a:off x="4114440" y="4798080"/>
              <a:ext cx="2742840" cy="532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3086">
              <a:hlinkClick r:id="rId6" action="ppaction://hlinksldjump"/>
            </p:cNvPr>
            <p:cNvSpPr/>
            <p:nvPr/>
          </p:nvSpPr>
          <p:spPr>
            <a:xfrm>
              <a:off x="5943240" y="5597640"/>
              <a:ext cx="2742840" cy="5328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UBLISH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"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. PLANN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usiness model, schedule, media plan and focus group is deter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. PRODU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 and assets for building the application is produced and man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with planning and scheduling the resources for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. DESIG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responsible for creating a detailed blueprint for the multimedia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s conceptual overview, storyboard, layout, interface design and information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4. DEVELOP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content is created and proc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content and media used in the application is integrated to become one complet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5. TES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sure the application is free from bug and will be accepted by the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re a bug, the application should be revised and be tested again until the application is free from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6. PUBLISH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application is tested and revised, it could be burned into a CD-ROM or published on the internet as a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ROLE OF MULTIMEDIA PRESENTATION IN EDU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to develop simple effective presentation for small group, a class or web-based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o develop a presentation based on a task assigned o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ROLE OF MULTIMEDIA PRESENTATION IN EDUC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lecture better using slide present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annotate existing files live while lectu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freed from physical proximity to the blackbo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enhances collaboration among teac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Y USE MULTIMEDIA TECHNOLOG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friendly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ingful and ease of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paced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effectiveness with greater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ULTIMEDIA HARDWARE AND SOFTWAR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put dev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utput devi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raph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VITY OF MULTI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TERACTIVITY OF MULTIMED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linear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85800" y="3352680"/>
            <a:ext cx="914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676520" y="3352680"/>
            <a:ext cx="83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590920" y="3352680"/>
            <a:ext cx="914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581280" y="3352680"/>
            <a:ext cx="9144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en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85800" y="4114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1905120" y="4129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3886200" y="412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3200400" y="4343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>
            <a:off x="129528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6172200" y="2743200"/>
            <a:ext cx="1600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4800600" y="457200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7391520" y="45720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5181480" y="35053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per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7620120" y="3505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per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9"/>
          <p:cNvSpPr/>
          <p:nvPr/>
        </p:nvSpPr>
        <p:spPr>
          <a:xfrm flipH="1">
            <a:off x="5638320" y="312408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>
            <a:off x="7162920" y="312408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00:40:49Z</dcterms:created>
  <dc:creator>user</dc:creator>
  <dc:description/>
  <dc:language>en-US</dc:language>
  <cp:lastModifiedBy>Buckrie</cp:lastModifiedBy>
  <dcterms:modified xsi:type="dcterms:W3CDTF">2012-04-12T09:39:27Z</dcterms:modified>
  <cp:revision>11</cp:revision>
  <dc:subject/>
  <dc:title>THE USE OF INTERNET</dc:title>
</cp:coreProperties>
</file>